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656-2BB6-4705-A17D-4A787E0A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E4B-596E-43C9-86E6-DD146D74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11C-4107-45DD-9886-A1F3A5F9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F01-F7C8-4A7B-9AB4-BFA66709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034-970E-47E6-A494-09813CC9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FFC-6A4C-4742-A1D2-08E8A78B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5FE-EEAF-4CBB-AFC8-EBC1CFC2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3AF-AAB3-4847-B6DC-80D0A3C5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C14-B53A-4C3D-A7A6-B375DC5F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137-D24D-4A27-9F44-CE84797C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74C-EDE1-4D96-B6C6-B9C3DBE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08A-8142-467A-91F8-54FB5646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2B21-BC80-4321-80D3-C79D969B1718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F712-7059-433F-8CC2-CBB90586810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1/1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ystem architectur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eam ov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ascal Lef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CTM IPM TP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General topics inside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P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ans-Georg Kel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Apoxi/Infineon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Dietrich Olf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Brew/Qualcom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Martin Kolde (starting 15.03.200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TTPCo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OpenPlug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echnology cluster mapp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825480"/>
          <a:ext cx="8207280" cy="513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25480"/>
                    <a:ext cx="820728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804000" y="6021360"/>
          <a:ext cx="914400" cy="714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60213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ajor challenges for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Merger from HW and SW system architecture to one operational organization to focus an system issu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Build bridge between technology clusters and platform architectur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ture breakdown to architectural compone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sibility support for M</a:t>
            </a:r>
            <a:r>
              <a:rPr b="0" lang="en-US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Platform screening and evaluation for P</a:t>
            </a:r>
            <a:r>
              <a:rPr b="0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pic list for System architecture (over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e band chipse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latform mapping and BSF feasibility chec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ultimedia/Imaging/HW Accelerato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ic platform framewor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ssaging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rows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nectiv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udio/Speech technolog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pplication environ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Java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iz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actory/Servic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tocol stack termination/Telephon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3716280"/>
            <a:ext cx="1154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869000"/>
            <a:ext cx="4105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3716280"/>
            <a:ext cx="115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3716280"/>
            <a:ext cx="712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3840" y="4797360"/>
            <a:ext cx="8353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ystem architecture area of wor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01080" y="587700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2360" y="40053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M/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St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789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3789360"/>
            <a:ext cx="50184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280" y="450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66920" y="2708280"/>
            <a:ext cx="647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340000"/>
            <a:ext cx="648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213000"/>
            <a:ext cx="93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2347920"/>
            <a:ext cx="122364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2349360"/>
            <a:ext cx="57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76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284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981000"/>
            <a:ext cx="215640" cy="115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 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90792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19890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820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57120" y="12682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4869000"/>
            <a:ext cx="43200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lay, Camer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pad,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4869000"/>
            <a:ext cx="432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87680" y="4869000"/>
            <a:ext cx="144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3789360"/>
            <a:ext cx="50616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4869000"/>
            <a:ext cx="36036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344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us Za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596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trich Ol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4880" y="54936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ld Stöc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2360" y="54936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ven 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214800"/>
            <a:ext cx="8636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3214800"/>
            <a:ext cx="936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0360" y="2349360"/>
            <a:ext cx="1223640" cy="781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2351160"/>
            <a:ext cx="576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8200" y="379080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3800" y="54936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f Ka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4160" y="549360"/>
            <a:ext cx="165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khard Düm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790800"/>
            <a:ext cx="863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2709720"/>
            <a:ext cx="6476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341440"/>
            <a:ext cx="64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4870440"/>
            <a:ext cx="43200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4880" y="5493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K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3800" y="54936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ürgen Ri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5240" y="549360"/>
            <a:ext cx="177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Georg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4880" y="54936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hard Z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4880" y="549360"/>
            <a:ext cx="180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and Djer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3800" y="54936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rich Hu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34880" y="549360"/>
            <a:ext cx="196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Scheith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6165720"/>
            <a:ext cx="273708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ntionally not in TPS 4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6381720"/>
            <a:ext cx="27370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ing expertise or headcount within TPS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6597720"/>
            <a:ext cx="27370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 covered by listed TPS 4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Dietrich Olf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Explorer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 App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tent Mgr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R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atab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ial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essag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el. Serv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S Termin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ulti Media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udio Policy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Voice Contro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dec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OS Kerne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Burkhard Düm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Brows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I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LB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Martin Kol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P Protoco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(OS Layer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Klaus Zapp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hem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tartup/Mod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ustomiz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ppl.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ync Servi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evice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Widget Lib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Jürgen Riepe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ootco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Non Consumer Driv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ustomized Driv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ccessor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Hans-Geog K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ase Ba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Gerhard Z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2G, 2.5G, 3G RF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M-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ntenna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Roland Djermest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SM/UMTS PS Stac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 Rou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Jav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Ulrich Hub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ower Mgm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 H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nso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ichael Scheithau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Vide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DVB-H, DAB, DMB,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 acc. 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ross cutting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 footprint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de size RAM, R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eap siz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mory consumption for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erformance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alf Oberheim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ulti media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chael Scheithau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ower consump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lrich Huber (acti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verall targets for platform provid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of target corridor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Guidelines for usage concep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ception handling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ccessorie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oland Djermes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etwork Protocol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rtin Kold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umber of implementations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ook and Feel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ustomiza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PI standardization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ascal Lefevre</cp:lastModifiedBy>
  <dcterms:modified xsi:type="dcterms:W3CDTF">2006-01-27T17:08:59Z</dcterms:modified>
  <cp:revision>142</cp:revision>
  <dc:subject/>
  <dc:title>PowerPoint 簡報</dc:title>
</cp:coreProperties>
</file>